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3B2-84D6-44AF-B4AA-2B258847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DA5-196F-417C-9FA0-A5991A00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9CB4-7D3E-4E73-BACE-E367245C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1228-641D-4ECB-B4DE-57D7CAA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EA91-8366-4116-BEB9-A05DE936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974A-39BA-4F07-917C-AA05933E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6E2A-7767-465F-A78A-768E306B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46AA-4E19-4F70-AAC2-959EAA2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0FFC-C225-4FA3-A9AB-21BA04A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9712-50C8-4163-B1CA-F83E7B0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68A-7673-4094-96A6-66726508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1743-1D9A-4DFD-8456-81D97633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81C3-F46D-4E56-9153-4960A60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F50-9F2D-43B3-B0DE-726D39A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2BC-14F0-4D06-B961-DFAEF9C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8983-D0F3-4294-ABBC-56648B3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2B6-D13D-40E9-9E05-9368106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61DB-ED21-416D-AEEF-321AD5A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768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2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768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0285-A338-4888-9212-7A731F88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4705-D3CC-478D-A123-B00F54C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3959-5DF8-48DA-A706-1E86BEA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864E-453A-4193-B38B-2C709DE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71F0-32C5-42A0-B1DD-255DF16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C2FF-AA05-4A40-BB72-51B3C25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472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AE75-9A5E-4D35-97C5-1215854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9622-8FEC-450D-8ED2-9C6642A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ff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Service, Training &amp; Documen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E155-0C4D-49BE-915D-15D964EC8BE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431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eaeaea"/>
                </a:solidFill>
                <a:latin typeface="Arial"/>
              </a:rPr>
              <a:t>Level 3 Authorized</a:t>
            </a:r>
            <a:br>
              <a:rPr sz="1200"/>
            </a:br>
            <a:r>
              <a:rPr b="0" lang="sv-SE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eaeaea"/>
                </a:solidFill>
                <a:latin typeface="Arial"/>
              </a:rPr>
              <a:t>Ver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2000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Level 1&amp;2 Authorized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Ver 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E91A-BB82-4D29-B090-725DDEDB72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1676160" y="2437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8000" y="152280"/>
            <a:ext cx="24829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35160" y="733320"/>
            <a:ext cx="161928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V3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19880" y="5715000"/>
            <a:ext cx="2724120" cy="7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38440" y="561960"/>
            <a:ext cx="21211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525600"/>
          <a:ext cx="9144000" cy="58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5600"/>
                    <a:ext cx="9144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773880" y="15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1295280"/>
            <a:ext cx="693432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 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3 200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Fac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shel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coated pai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s/Mod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 : 850/900/1800/19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Class 10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 c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 x 53 x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6 x 220 64K TFT in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 x 80 4K CSTN ex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nn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T/SB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(700mAh Batte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I (24Ch/22Khz)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Ring t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81160" y="54936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if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14240" y="3584520"/>
            <a:ext cx="778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internal EMU circuit indicate the accessory or test modes over the USB Data lines and the ID li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multiplex switch the USB Data line to the internal Data or Audio li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 Interfa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480" y="187020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U = Enhanced Mini Universal Serial B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etion = MINI US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pport = Charging mid/full rate, Audio, Data, Factory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81120" y="1228680"/>
            <a:ext cx="5556240" cy="50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33400" y="1252440"/>
            <a:ext cx="5483520" cy="5132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U Multiplex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47840" y="1598760"/>
            <a:ext cx="8410320" cy="3659040"/>
            <a:chOff x="447840" y="1598760"/>
            <a:chExt cx="8410320" cy="36590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47840" y="1598760"/>
              <a:ext cx="8410320" cy="36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810800" y="318600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11080" y="317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Chipse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79560"/>
            <a:ext cx="77724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15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Alga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ntend IC, RX/TX VC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5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Eagle”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X/TX Switch, PA + Matching, PAC IC,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 Control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80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Neptune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SP, De/ Modulation, VCO driver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900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PCAP 3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tereo dec.,power sup., over Voltage interfa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700 “Flash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MB user memo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300 “Bluetooth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38440" y="1300320"/>
            <a:ext cx="4057560" cy="39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19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Top S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822680" y="3825720"/>
            <a:ext cx="60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5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agl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7320" y="225756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9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PCAP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5440" y="344484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US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2200" y="309240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Y9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32,768KHz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30440" y="1254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BAT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47000" y="2263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VI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6360" y="13780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SI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2600" y="1419120"/>
            <a:ext cx="1200240" cy="266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4160" y="2486160"/>
            <a:ext cx="1209600" cy="10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1400" y="2486160"/>
            <a:ext cx="1314360" cy="75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57560" y="3009960"/>
            <a:ext cx="1361880" cy="342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19200" y="3552480"/>
            <a:ext cx="1181160" cy="51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10280" y="1542960"/>
            <a:ext cx="2009520" cy="704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191280" y="2438280"/>
            <a:ext cx="104760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19360" y="3591000"/>
            <a:ext cx="962280" cy="133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381400" y="1303200"/>
            <a:ext cx="4152600" cy="3927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516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Verdana"/>
              </a:rPr>
              <a:t>Bot S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7068960" y="4334040"/>
            <a:ext cx="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L1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69320" y="5187960"/>
            <a:ext cx="61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15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1120" y="3695760"/>
            <a:ext cx="5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0040" y="120960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8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9920" y="1095480"/>
            <a:ext cx="1479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7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lash/EEPROM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68240" y="2130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 Keyboar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3520" y="4933800"/>
            <a:ext cx="57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3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69680" y="287640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Y8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26MHz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4920" y="1581120"/>
            <a:ext cx="1571760" cy="704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57240" y="3352680"/>
            <a:ext cx="1914840" cy="1648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24600" y="1457280"/>
            <a:ext cx="1800000" cy="590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34240" y="2295360"/>
            <a:ext cx="1123920" cy="19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667120" y="3657240"/>
            <a:ext cx="1314360" cy="847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505480" y="2904840"/>
            <a:ext cx="1666800" cy="23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143760" y="3409920"/>
            <a:ext cx="100944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152680" y="3580920"/>
            <a:ext cx="1981080" cy="187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2:03Z</dcterms:created>
  <dc:creator>Alexander Bühler</dc:creator>
  <dc:description/>
  <dc:language>en-US</dc:language>
  <cp:lastModifiedBy>wfab610</cp:lastModifiedBy>
  <dcterms:modified xsi:type="dcterms:W3CDTF">2004-08-30T14:36:05Z</dcterms:modified>
  <cp:revision>102</cp:revision>
  <dc:subject/>
  <dc:title>V80</dc:title>
</cp:coreProperties>
</file>