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C658-E66B-4CCA-8808-962E55071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AD6A-B554-40F6-A29E-E6C4F4909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E0D8F-6FB6-4506-BDDA-F43C96D0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2040" y="39348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C359D-F3D5-4569-B409-4B906A4A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04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472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2C0DA-2817-4E8B-8EF4-AE46BEB7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04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768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204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04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768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B2367-695A-4D51-9103-44BDF2C2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D6ED-9031-4D84-8CF7-4588CD51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6204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7EEB-38FE-4494-B310-6BA86999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0154-1B7D-4B26-A430-6DCDD87E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DE49-6279-4508-BF8A-938EF968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91E7-2232-4E17-A325-6E9132C7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4DD9-8699-4E68-9959-1E8320F1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204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E9B6-E40A-44CB-80A0-D57D65F7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6204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B9E3E-42A4-46CF-B58E-15154984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472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C228-5995-49B8-8709-FCE37D19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62040" y="39348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D217-082A-485F-886A-2F09EDF5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2040" y="39348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E6BD-D30F-4ADB-83D8-7874D0EE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204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472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80D1-02C4-426C-B6E6-0AA214C2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04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768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6204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04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768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2EF3-0764-4FC7-BFF7-31BC7A5E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45A8E-AE76-43EB-8A42-39CDA5D3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0B2DA-8A78-4335-A3F8-86DF241B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DAA23-D0EA-4307-9A8D-3F5890E2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A5A1F-6574-40D4-B506-D01B1C2B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204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91CEF-BF8D-4111-8B1B-0BCF3CCE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472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576B4-388F-4F44-86BF-70F5FE4A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39348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464E6-45E3-4C02-82B2-F0D5DD4E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00ff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6204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Service, Training &amp; Docum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E015-170D-45C1-8143-46E1928FDF5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31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eaeaea"/>
                </a:solidFill>
                <a:latin typeface="Arial"/>
              </a:rPr>
              <a:t>Level 3 Authorized</a:t>
            </a:r>
            <a:br>
              <a:rPr sz="1200"/>
            </a:br>
            <a:r>
              <a:rPr b="0" lang="sv-SE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v-SE" sz="1000" spc="-1" strike="noStrike">
                <a:solidFill>
                  <a:srgbClr val="eaeaea"/>
                </a:solidFill>
                <a:latin typeface="Arial"/>
              </a:rPr>
              <a:t>Ver 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2000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Level 1&amp;2 Authorized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Ver 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A631-FCDD-4660-B39F-3A9BA91E959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1676160" y="24379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8000" y="152280"/>
            <a:ext cx="24829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35160" y="733320"/>
            <a:ext cx="1619280" cy="10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Verdana"/>
              </a:rPr>
              <a:t>V3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419880" y="5715000"/>
            <a:ext cx="2724120" cy="746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38440" y="561960"/>
            <a:ext cx="21211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0" y="525600"/>
          <a:ext cx="9144000" cy="580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25600"/>
                    <a:ext cx="914400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3773880" y="1584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1295280"/>
            <a:ext cx="693432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 D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3 200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 Fact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mshel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-coated pain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s/Mod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 : 850/900/1800/1900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RS Class 10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 c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igh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8 x 53 x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6 x 220 64K TFT intern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 x 80 4K CSTN extern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enn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T/SB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D (700mAh Battery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I (24Ch/22Khz)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3 Ring ton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81160" y="549360"/>
            <a:ext cx="29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cific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14240" y="3584520"/>
            <a:ext cx="778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 internal EMU circuit indicate the accessory or test modes over the USB Data lines and the ID lin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 multiplex switch the USB Data line to the internal Data or Audio lin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MU Interfac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9480" y="1870200"/>
            <a:ext cx="771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U = Enhanced Mini Universal Serial Bu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etion = MINI US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pport = Charging mid/full rate, Audio, Data, Factory Mo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81120" y="1228680"/>
            <a:ext cx="5556240" cy="5059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MU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33400" y="1252440"/>
            <a:ext cx="5483520" cy="5132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MU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MU Multiplex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47840" y="1598760"/>
            <a:ext cx="8410320" cy="3659040"/>
            <a:chOff x="447840" y="1598760"/>
            <a:chExt cx="8410320" cy="365904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447840" y="1598760"/>
              <a:ext cx="8410320" cy="36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810800" y="3186000"/>
              <a:ext cx="266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11080" y="3176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Verdana"/>
              </a:rPr>
              <a:t>Chipse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879560"/>
            <a:ext cx="777240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150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Algae”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ntend IC, RX/TX VCO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50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Eagle”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X/TX Switch, PA + Matching, PAC IC,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witch Control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800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Neptune”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DSP, De/ Modulation, VCO driver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900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PCAP 3”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tereo dec.,power sup., over Voltage interface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700 “Flash”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5MB user memory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300 “Bluetooth”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38440" y="1300320"/>
            <a:ext cx="4057560" cy="3904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0280" y="19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Verdana"/>
              </a:rPr>
              <a:t>Top S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822680" y="3825720"/>
            <a:ext cx="60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5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Eagl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87320" y="2257560"/>
            <a:ext cx="7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9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PCAP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75440" y="344484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J USB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2200" y="3092400"/>
            <a:ext cx="103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Y9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32,768KHz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30440" y="125424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J BATT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47000" y="226368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J VIB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56360" y="137808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J SI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52600" y="1419120"/>
            <a:ext cx="1200240" cy="266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24160" y="2486160"/>
            <a:ext cx="1209600" cy="104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81400" y="2486160"/>
            <a:ext cx="1314360" cy="75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257560" y="3009960"/>
            <a:ext cx="1361880" cy="342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419200" y="3552480"/>
            <a:ext cx="1181160" cy="514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210280" y="1542960"/>
            <a:ext cx="2009520" cy="704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191280" y="2438280"/>
            <a:ext cx="1047600" cy="76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19360" y="3591000"/>
            <a:ext cx="962280" cy="133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381400" y="1303200"/>
            <a:ext cx="4152600" cy="3927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516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Verdana"/>
              </a:rPr>
              <a:t>Bot S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7068960" y="4334040"/>
            <a:ext cx="67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L1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AW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69320" y="5187960"/>
            <a:ext cx="61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15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71120" y="3695760"/>
            <a:ext cx="54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J 4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MIC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70040" y="1209600"/>
            <a:ext cx="82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8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89920" y="1095480"/>
            <a:ext cx="14792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7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lash/EEPROM/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RA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68240" y="2130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J Keyboar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43520" y="4933800"/>
            <a:ext cx="57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3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T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69680" y="287640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Y80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6MHz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04920" y="1581120"/>
            <a:ext cx="1571760" cy="704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857240" y="3352680"/>
            <a:ext cx="1914840" cy="1648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124600" y="1457280"/>
            <a:ext cx="1800000" cy="590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934240" y="2295360"/>
            <a:ext cx="1123920" cy="190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667120" y="3657240"/>
            <a:ext cx="1314360" cy="847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505480" y="2904840"/>
            <a:ext cx="1666800" cy="237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143760" y="3409920"/>
            <a:ext cx="100944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5152680" y="3580920"/>
            <a:ext cx="1981080" cy="1876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3:32:03Z</dcterms:created>
  <dc:creator>Alexander Bühler</dc:creator>
  <dc:description/>
  <dc:language>en-US</dc:language>
  <cp:lastModifiedBy>wfab610</cp:lastModifiedBy>
  <dcterms:modified xsi:type="dcterms:W3CDTF">2004-08-30T14:36:05Z</dcterms:modified>
  <cp:revision>102</cp:revision>
  <dc:subject/>
  <dc:title>V80</dc:title>
</cp:coreProperties>
</file>